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57D-053F-49D3-BBEB-33887668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B4E-DE61-4B44-92B5-A831424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908-0247-4446-9668-6D4F6EE1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380-708D-4C72-B13F-1B03253D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2EB9-9301-483B-BA1B-8B9B59FE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1D2B-E7B6-4FF6-8025-6ED6E4E7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AD17-67F9-4547-A4C8-32613CF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F5EB-76C2-421F-B011-F1B0923C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4814-F069-4279-B45D-28E32990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BC77-A254-4FBC-8B2C-02998AD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F38B-56DE-4F2D-B6DB-D6B7954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404-4763-442E-9A95-6BFECBC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9758-0BC2-4672-8576-1D9DBA0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217-DDA7-45BC-BA5E-358023CE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0C7D-46CF-4A01-A62C-088675A8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CF53-8E13-4AAF-81FA-237A302B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7C82-14C1-4197-9097-A9E4C5B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09D4-AB92-4DA1-BCA4-55FE8429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9A37-43A9-4936-B3DD-C8E67E04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2116-71B5-4B7E-9583-7D686ABB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2ED6-12DE-46EA-A48D-2E29BBA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6C4C-868C-411A-9702-54E036CB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A09-7E42-419E-8A43-74B15F1C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5E71-EBDF-4C27-8858-9B9803B2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61E6-1E21-497D-A264-12A3A31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049D-2F1D-4685-8B86-C303453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7135-EDBB-460C-AC06-81938E4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0B2BF-A702-4DB8-BF1A-06433A5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8096-BFDD-450D-AE3B-63422F9E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E87B-3FEF-4FC9-9DC0-A94D8AB6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12F2-8237-452B-8BDC-22D79473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BFBA-8466-4951-B20B-1512984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8EB6-5430-4AFC-A371-597750D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92F-2CBA-4048-A329-C2A61317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0788-FB70-4DE6-87A9-8A5115B4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BF81-EC3C-442B-B33A-32D261E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AEAD-ADD2-4EA7-8FA8-C8DD97B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910E-410C-49D9-8A50-E84BAA5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14E6-F4D5-44AA-A65E-A019BB8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D7F0-5B50-4002-8C85-F273090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5024-58C5-4C7A-B88F-669585A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BB59-163F-4FD2-8F35-B99B29DB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2890-C6C0-40CC-A0B8-78FCA658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4EB3-7B47-43EA-86E2-42D41AF1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161-052D-4122-9EFB-769884C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E896-09FC-4979-B9A2-45ECE784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913A-0CF6-46BC-B190-73E83552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B5668-B91D-4E2F-9347-65BA580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AB8B-B02A-4979-B918-AE49299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8530-3A88-45BC-B843-AE24B37F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E5A8-8474-4DEF-B41E-9489071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F7E7-9B05-4C65-AC00-292C715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D9BB-56B2-4B75-A13E-2864310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1D5C-FE46-4C6D-AC2C-08F8925A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1DA0-EA94-4511-A974-4C8BE2F8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794-7171-4102-8937-A08F7EB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D094-F6A1-4667-A206-17E903C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3174-0BEB-436A-A234-73F8F718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3D651-698A-4B44-9FC7-828C675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6565-EACD-4328-B355-BE3DB18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782D-C0BF-405C-992F-011AE18F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B162-103B-4AFA-8253-2B005CE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1847-378C-43D4-81A3-4596DB2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A97F-65DF-447E-9598-8F403A7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62ED-5E97-458B-A54B-E6CEF1C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8DBC-257E-48FB-9325-82D5F4D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B23-2C3E-4C74-B105-0A04DBA7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91080-10D9-4173-9679-4A750ABE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A8131-8E39-444B-B298-38A994FD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4578-29CE-4F55-AB72-A905884A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2C6F-077E-4E96-877D-494977F4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4BC86-24A4-4596-8209-F1596425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7761-F6E1-4040-B096-04E32AFF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72CD-2E03-4633-A1DA-21779E7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D7A4B-9A79-474B-A832-94BBEFE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651F-10B4-457E-9D8F-BB0A190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186C-CCD6-4951-83D9-B173E6B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93C-EFEF-4DC2-BA7F-38BAEE0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78D38-F343-4F59-99B2-4BBC842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78A8E-0B72-41A1-B1C2-E244012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812A-1A8B-4026-A96C-B3C115E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6FEDD-4813-413D-AE8F-76D23E92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5363F-44D7-4A06-9514-D13AC575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226BC-1E5C-4033-9023-EA23B567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B058-3F41-4D04-9819-58163DBD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C8547-075B-4397-82A9-6CE1CFA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95E2-5A87-4677-A4F8-814D1D2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8253-072E-47FA-A269-C7470AE2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5BC-366F-4E34-9E5D-81C087D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4455C-0AB8-4115-87D6-920E187E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CA6D-601D-4B54-9F97-3576F1EE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F08F8-FEFC-44CD-B32C-7EF6506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C534-1873-4E23-93A3-9C06BE9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D97EC-3241-443A-AEA1-C377E014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7301-7F56-472E-98A5-F34A571F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83611-C4D3-4290-88B6-E232E384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D7A-7F3C-466D-A07A-3C8AB12391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7FC3-C4BC-4695-B05C-AECD455C97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7F0-0D84-480B-A93D-82BF1C6861A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354-0E9A-4048-AD03-8DF1795BDFC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73C8-7A14-4C10-AE90-1277E95579C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35F4-11F0-4ACF-8547-0A6579BB88A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B768-F012-48C9-8A3E-CB72DB50E6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904D-015D-4E0C-ABF4-589FE2A8703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eopardylabs.com/" TargetMode="External"/><Relationship Id="rId2" Type="http://schemas.openxmlformats.org/officeDocument/2006/relationships/hyperlink" Target="http://www.superteachertools.com/jeopardy/" TargetMode="External"/><Relationship Id="rId3" Type="http://schemas.openxmlformats.org/officeDocument/2006/relationships/hyperlink" Target="http://classtools.ne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46160" y="835200"/>
            <a:ext cx="9004320" cy="2073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akeview Academ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ummer Technology Instit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0880" y="160020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Jeopardy Lab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Flash Jeopar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Class Too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lashcard Mach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cience Classroom R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4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1752480" y="46483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facstaff.uww.edu/jonesd/games/inde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people.uncw.edu/ertzbergerj/ppt_games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superteachertools.com/jeopardy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de Vocabulary “Who Wants to be a …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de Vocabulary Jeopardy f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oll of Thunder, Hear My Cry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toolsforeducators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56:47Z</dcterms:created>
  <dc:creator>Fac - Montgomery,Bruce</dc:creator>
  <dc:description/>
  <dc:language>en-US</dc:language>
  <cp:lastModifiedBy>Fac - Montgomery,Bruce</cp:lastModifiedBy>
  <dcterms:modified xsi:type="dcterms:W3CDTF">2010-07-23T22:09:09Z</dcterms:modified>
  <cp:revision>21</cp:revision>
  <dc:subject/>
  <dc:title>Slide 1</dc:title>
</cp:coreProperties>
</file>